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CAD-2F1F-4616-82D9-1999CF3D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062-816E-43C5-B1F8-989AB4E6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685-1DBF-4ABE-BC84-0F71608B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570-0500-4400-B6B4-68076E6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1C5-8CBB-46F4-BB87-5F9FC5A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7FF-4F5F-4BA8-8029-EBB93FDE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FA6-6463-4B52-BFC0-3837718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250-B024-446F-8A65-F5376C76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95A-03CC-49FB-9902-2AA53947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77B-E36A-48DA-AB17-5F101DD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CD1-D2C2-4FBE-9DB7-84DD3D0A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BDD-F4A5-422B-A60D-032AE944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53A-D517-4E31-AA74-CE485428D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 rot="379800">
            <a:off x="1571760" y="3578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 flipV="1" rot="8816400">
            <a:off x="5226840" y="92880"/>
            <a:ext cx="26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тузи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 rot="20661000">
            <a:off x="7214760" y="39366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 rot="1371600">
            <a:off x="329040" y="2967120"/>
            <a:ext cx="19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з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 rot="1134000">
            <a:off x="581400" y="21002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п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3"/>
          <p:cNvSpPr/>
          <p:nvPr/>
        </p:nvSpPr>
        <p:spPr>
          <a:xfrm flipH="1" rot="20730000">
            <a:off x="6992280" y="154476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 rot="1233000">
            <a:off x="1719000" y="6933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 rot="19775400">
            <a:off x="6949440" y="98280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част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3571920" y="214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 rot="20468400">
            <a:off x="7379640" y="295704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ад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 rot="20859600">
            <a:off x="7143480" y="2285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 rot="961200">
            <a:off x="1031760" y="1277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rot="1145400">
            <a:off x="12240" y="405612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работоспособн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rot="1135200">
            <a:off x="71280" y="3828960"/>
            <a:ext cx="51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богат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2"/>
          <p:cNvSpPr/>
          <p:nvPr/>
        </p:nvSpPr>
        <p:spPr>
          <a:xfrm rot="20010600">
            <a:off x="6101640" y="74412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3"/>
          <p:cNvSpPr/>
          <p:nvPr/>
        </p:nvSpPr>
        <p:spPr>
          <a:xfrm flipH="1" flipV="1" rot="9696000">
            <a:off x="7644240" y="46141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весе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"/>
          <p:cNvSpPr/>
          <p:nvPr/>
        </p:nvSpPr>
        <p:spPr>
          <a:xfrm flipV="1" rot="11705400">
            <a:off x="-92520" y="498060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реш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/>
          <p:cNvSpPr/>
          <p:nvPr/>
        </p:nvSpPr>
        <p:spPr>
          <a:xfrm rot="1237200">
            <a:off x="754560" y="182196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/>
          <p:cNvSpPr/>
          <p:nvPr/>
        </p:nvSpPr>
        <p:spPr>
          <a:xfrm>
            <a:off x="3157560" y="114300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целеустремлё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/>
          <p:cNvSpPr/>
          <p:nvPr/>
        </p:nvSpPr>
        <p:spPr>
          <a:xfrm flipV="1" rot="9661200">
            <a:off x="6400800" y="524628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праведл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8"/>
          <p:cNvSpPr/>
          <p:nvPr/>
        </p:nvSpPr>
        <p:spPr>
          <a:xfrm rot="786000">
            <a:off x="232920" y="540072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9"/>
          <p:cNvSpPr/>
          <p:nvPr/>
        </p:nvSpPr>
        <p:spPr>
          <a:xfrm rot="726600">
            <a:off x="473040" y="276552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тзыв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0"/>
          <p:cNvSpPr/>
          <p:nvPr/>
        </p:nvSpPr>
        <p:spPr>
          <a:xfrm rot="20877600">
            <a:off x="7316280" y="2581200"/>
            <a:ext cx="18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искр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1"/>
          <p:cNvSpPr/>
          <p:nvPr/>
        </p:nvSpPr>
        <p:spPr>
          <a:xfrm>
            <a:off x="3500280" y="785880"/>
            <a:ext cx="18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14240" y="40464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1928880" y="135720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ъяснять свои жел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ыслушивать друг- д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держивать свои эмо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конфлик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говорите сразу с взвинченным, возбуждённым челове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жде чем сказать о неприятном человеку, постарайтесь создать доброжелательную атмосферу, отметьте его заслуги и его хорошие 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райтесь посмотреть на проблему глазами оппонента, постарайтесь «встать на его мест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крывайте доброго отношения к людям, чаще высказывайте одобрение своим товарищам, не скупитесь на похв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йте заставить себя молчать, когда вас задевают в мелкой ссоре ,будьте выше мелочных разборок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_giving_thumbs_up_hg_clr"/>
          <p:cNvPicPr/>
          <p:nvPr/>
        </p:nvPicPr>
        <p:blipFill>
          <a:blip r:embed="rId1"/>
          <a:stretch/>
        </p:blipFill>
        <p:spPr>
          <a:xfrm>
            <a:off x="7686720" y="189000"/>
            <a:ext cx="145728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i?id=92312131-63-72&amp;n=21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-281160" y="-3682440"/>
            <a:ext cx="9707760" cy="10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Язык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лучший посред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ля установл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ружбы и соглас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азм Роттердам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сказать-посчитай до десяти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обидеть-посчитай до ста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ударить-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осчитай до тысячи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(Старинная народная мудр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i?id=79524606-27-72&amp;n=21"/>
          <p:cNvPicPr/>
          <p:nvPr/>
        </p:nvPicPr>
        <p:blipFill>
          <a:blip r:embed="rId1"/>
          <a:stretch/>
        </p:blipFill>
        <p:spPr>
          <a:xfrm>
            <a:off x="7524720" y="4708440"/>
            <a:ext cx="1619280" cy="21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i?id=16874360-01-72&amp;n=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179280" y="0"/>
            <a:ext cx="89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сказать-посчитай до десяти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обидеть-посчитай до ста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ударить-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читай до тысячи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(Старинная народная мудр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Стратегии поведения в конфликте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74" name="Picture 2" descr="C:\Documents and Settings\Учитель\Рабочий стол\доклад\13.jpg"/>
          <p:cNvPicPr/>
          <p:nvPr/>
        </p:nvPicPr>
        <p:blipFill>
          <a:blip r:embed="rId1"/>
          <a:stretch/>
        </p:blipFill>
        <p:spPr>
          <a:xfrm>
            <a:off x="0" y="3789360"/>
            <a:ext cx="2835360" cy="283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?id=177395400-00-72&amp;n=21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100008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тратегии поведения в конфлик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нкуренция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 flipV="1" rot="10785000">
            <a:off x="4781160" y="5657040"/>
            <a:ext cx="396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бег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 flipV="1" rot="10800000">
            <a:off x="1185480" y="1339560"/>
            <a:ext cx="51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076720" y="2349360"/>
            <a:ext cx="40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4284720" y="404640"/>
            <a:ext cx="48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нкурен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я победил, ты                   должен проигр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спользовать человек, обладающий сильной волей, достаточным авторитетом, властью, не очень заинтересованный в сотрудничестве с другой стороны и стремящийся в первую очередь удовлетворить собственные интере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&amp;Mcy;&amp;iecy;&amp;zhcy;&amp;lcy;&amp;icy;&amp;chcy;&amp;ncy;&amp;ocy;&amp;scy;&amp;tcy;&amp;ncy;&amp;ycy;&amp;jcy; &amp;kcy;&amp;ocy;&amp;ncy;&amp;fcy;&amp;lcy;&amp;icy;&amp;kcy;&amp;tcy;"/>
          <p:cNvPicPr/>
          <p:nvPr/>
        </p:nvPicPr>
        <p:blipFill>
          <a:blip r:embed="rId1"/>
          <a:stretch/>
        </p:blipFill>
        <p:spPr>
          <a:xfrm>
            <a:off x="0" y="0"/>
            <a:ext cx="1967040" cy="2428920"/>
          </a:xfrm>
          <a:prstGeom prst="rect">
            <a:avLst/>
          </a:prstGeom>
          <a:ln w="0">
            <a:noFill/>
          </a:ln>
        </p:spPr>
      </p:pic>
      <p:pic>
        <p:nvPicPr>
          <p:cNvPr id="88" name="VN550452.WMA" descr=""/>
          <p:cNvPicPr/>
          <p:nvPr/>
        </p:nvPicPr>
        <p:blipFill>
          <a:blip r:embed="rId2"/>
          <a:stretch/>
        </p:blipFill>
        <p:spPr>
          <a:xfrm>
            <a:off x="42148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48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збег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бы ни было, я ухожу</a:t>
            </a: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ратегия рекомендуется в тех случаях, когда одна из сторон обладает большей властью или чувствует, что неправа, или считает, что нет серьезных оснований для продолжения контактов</a:t>
            </a:r>
            <a:br>
              <a:rPr sz="3600"/>
            </a:br>
            <a:br>
              <a:rPr sz="6000"/>
            </a:b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i?id=37068140-17-72&amp;n=21"/>
          <p:cNvPicPr/>
          <p:nvPr/>
        </p:nvPicPr>
        <p:blipFill>
          <a:blip r:embed="rId1"/>
          <a:stretch/>
        </p:blipFill>
        <p:spPr>
          <a:xfrm>
            <a:off x="692928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VN550454.WMA" descr=""/>
          <p:cNvPicPr/>
          <p:nvPr/>
        </p:nvPicPr>
        <p:blipFill>
          <a:blip r:embed="rId2"/>
          <a:stretch/>
        </p:blipFill>
        <p:spPr>
          <a:xfrm>
            <a:off x="464328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85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Приспособ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ты выиграл,я должен проигр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&amp;Ucy;&amp;rcy;&amp;iecy;&amp;gcy;&amp;ucy;&amp;lcy;&amp;icy;&amp;rcy;&amp;ocy;&amp;vcy;&amp;acy;&amp;ncy;&amp;icy;&amp;iecy; &amp;kcy;&amp;ocy;&amp;ncy;&amp;fcy;&amp;lcy;&amp;icy;&amp;kcy;&amp;tcy;&amp;acy;"/>
          <p:cNvPicPr/>
          <p:nvPr/>
        </p:nvPicPr>
        <p:blipFill>
          <a:blip r:embed="rId1"/>
          <a:stretch/>
        </p:blipFill>
        <p:spPr>
          <a:xfrm>
            <a:off x="5170320" y="3714840"/>
            <a:ext cx="3973680" cy="2968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79280" y="2253600"/>
            <a:ext cx="4892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а, когда исход дела чрезвычайно важен для другой стороны и не очень существен для ва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VN550455.WMA" descr=""/>
          <p:cNvPicPr/>
          <p:nvPr/>
        </p:nvPicPr>
        <p:blipFill>
          <a:blip r:embed="rId2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49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промис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840" y="1600200"/>
            <a:ext cx="8643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каждый из нас что-то выиграл, каждый из нас должен что-то про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представителей разных точек зрений и интересов на основе взаимных уступ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 стороны хотят одного и того же, но знают, что одновременно это невыполнимо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i?id=144068208-21-72&amp;n=21"/>
          <p:cNvPicPr/>
          <p:nvPr/>
        </p:nvPicPr>
        <p:blipFill>
          <a:blip r:embed="rId1"/>
          <a:stretch/>
        </p:blipFill>
        <p:spPr>
          <a:xfrm>
            <a:off x="6929280" y="5857920"/>
            <a:ext cx="2214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VN550456.WMA" descr=""/>
          <p:cNvPicPr/>
          <p:nvPr/>
        </p:nvPicPr>
        <p:blipFill>
          <a:blip r:embed="rId2"/>
          <a:stretch/>
        </p:blipFill>
        <p:spPr>
          <a:xfrm>
            <a:off x="7786800" y="6429240"/>
            <a:ext cx="3045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103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трудничест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выиграл я, ты тоже должен вы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её применения - разработка долгосрочного взаимовыгодного решения. Такая стратегия требует умения объяснять свои желания, выслушивать друг друга, сдерживать свои эмоции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business_women_shaking_hands_hg_clr"/>
          <p:cNvPicPr/>
          <p:nvPr/>
        </p:nvPicPr>
        <p:blipFill>
          <a:blip r:embed="rId1"/>
          <a:stretch/>
        </p:blipFill>
        <p:spPr>
          <a:xfrm>
            <a:off x="7858080" y="0"/>
            <a:ext cx="1428840" cy="3027240"/>
          </a:xfrm>
          <a:prstGeom prst="rect">
            <a:avLst/>
          </a:prstGeom>
          <a:ln w="0">
            <a:noFill/>
          </a:ln>
        </p:spPr>
      </p:pic>
      <p:pic>
        <p:nvPicPr>
          <p:cNvPr id="105" name="VN550457.WMA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13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EEDxp</cp:lastModifiedBy>
  <dcterms:modified xsi:type="dcterms:W3CDTF">2014-03-10T13:43:43Z</dcterms:modified>
  <cp:revision>80</cp:revision>
  <dc:subject/>
  <dc:title>Слайд 1</dc:title>
</cp:coreProperties>
</file>